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D2F-94F1-4FE5-8F33-18748E0B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779-0A6C-4FC6-A34A-AB859B2D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62F-DFAE-410E-82F4-CC1E859C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C05-476B-4BDA-ADE5-B0F45AAA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0F8-5764-45A7-92D3-58DE9564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7BF-F6B6-4D68-953B-3409C342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2F59-75B4-48CE-85DE-68FE22F1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2F79-3DB3-48DA-ACD7-47B8F4C8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854D-3C4A-4456-BE4A-7D6E01FD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ECA-E66B-4CF4-921C-170FE996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55E4-AD06-4618-A7FE-2DF4E01F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EB7D-0A54-4168-9623-E42171B2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2AE7-E77E-4EB1-9EA6-9D8BCF83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CA46-2774-4E6A-94CE-CC94BDB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7C79-F467-48F8-8163-97FCF4C2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8FE1-C5C2-4BE6-A1B4-E1E924BF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ED60-E0BC-499B-B1C4-4DAB5088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8ADA-DB37-44AB-B267-517CE155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1A8B-714F-4728-A0AA-B1242566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B7FE3-C70F-4FA3-ACBA-9B62E6F6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E56-1365-4DC4-8EC1-68BB249D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EEED-773A-4F99-A28E-23284A3A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4713-D15F-4F59-8D74-CF86A6AC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106F-D7E3-42F0-91FF-3716579B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4487-9926-44AB-A7D1-0D2474AD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22FF-1B3D-410A-B9CA-04A8D1C9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6A4B-0F7C-42DA-BA66-7425B8C5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873D-BD0A-4386-AB16-AD484E7A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66D8-6F15-450B-B3CA-FC727CF5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2200-1618-44EC-9DE8-36FE48B5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9417-CCDD-402C-8933-EBD29609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4D4-A147-41A2-8D21-D602592A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3574-BD42-4D88-87E4-FCD459A4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1E71-A59E-4D3A-9FE4-5F43E07E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E9F9B-B975-4069-BED9-2055ECE4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6770-4778-4019-806C-2D97941D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4568-40E8-4F75-8FE3-BF97100D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5CA5-A0EB-45C3-A647-A10DDE0C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54A7-1538-4E66-942B-EB93F907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D8DA-5B67-40CF-A3AE-E1D28E4B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2BB3-2814-4C59-B942-5D3A6557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7D2A4-605E-4E17-B0C1-932B5725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A1E-1268-49A1-81E9-E48F57F1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27FE-59B9-408B-84FD-61AB16D8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9B9EF-76F4-4F4A-A058-A7F53BC0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8CE5C-6DE3-4C6D-A949-B744218F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C63-1485-4E6D-A912-A0D19BFB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684-013E-424E-A2C1-493B945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7F62AA9-5A70-4353-840E-B1D42E512E0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450575A-3393-4096-8F75-4F348603B4E6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1F8D0F2-7BD9-4FED-B78E-A34F5D97B83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A4988FB-E10C-493E-A50C-B576757BE44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pisz sposób oceny oddechu poszkodowanego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 pomocą trzech zmysłów: wzroku (sprawdzamy,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czy unosi się klatka piersiowa), słuchu (sprawdzamy,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czy słyszymy szmery oddechowe) i dotyku (sprawdzamy, czy czujemy na policzku wydmuchiwane przez poszkodowanego powietrze)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4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